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14D6-2C5E-4785-A814-EF1D9CA4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28F0-A5D5-40EA-973E-9AA44228FB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A764-8D6C-4991-947D-7196B29AD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BE6-FE33-4069-864D-AE97B056B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A290-614F-4B24-A6AA-051B43C76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24E-E009-4CFE-84E4-0C16F17DE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F145-AD2F-437A-A01E-64627F04C4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CA7B-7F98-4D94-BF0D-07E8FCF7B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8A7-BBBF-46C5-968F-83FC1C6CC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E70A-8412-4B12-84C1-DD1BDC980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BC4A-E84F-4404-A2B0-B97F973DC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8FA-F434-40AF-83E6-23D8846F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BB-451E-4FE5-BD36-632645A2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DCC-6F0E-4909-B04A-C0B1E653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285-EF7B-497A-962D-EA175F12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D1D-DDFE-46C4-A871-89B97067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1C55-FB1C-45DA-824C-7C9989B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B43C-031F-4DF1-8A63-827F50A5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E42-3589-4EC1-8840-C7C260E3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CDAF-4286-4288-912D-F11D6799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2E03-4E1E-4CC2-AE81-61D8548D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B44-B3E1-473C-8060-5D1F362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355-2E7A-4A35-A0AC-A27C054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4627-73A3-4F08-B9C2-3DA6059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EE53-4832-48D2-9E6D-6BA97AF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A7B0-BD45-4DD9-B386-51BD83A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0A76-AFD5-4248-BC58-BF6E4A1E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DC7-8EF0-4C9C-BA18-64A3E717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3D8-9304-49CE-B4AA-00158EB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AA0-9202-447B-AC8A-ED9DDABF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83F-87B9-435F-BD37-A7309DD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E89-9969-4035-B77A-907A3B5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190-B798-4A0B-9A39-B328AA7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413-CCAB-41C1-974D-ED72E61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2E9-6276-402F-9328-E9A6CED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CB0C-814B-4B85-9ECC-9CA10FBFF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1F7-5627-433A-8417-0CF6B019FD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UST THE FACT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Q #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What is the meeting of British troops and colonial militia in the towns of Lexington and Concord better known a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2581200" y="3809880"/>
            <a:ext cx="398160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Who died on July 4, 1826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135240" y="2676600"/>
            <a:ext cx="2873520" cy="368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8853480" y="6603840"/>
            <a:ext cx="32688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Declaration of Independence document largely made up of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319104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was mentioned officially for the first time in the Declaration of Independen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662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ere is the Declaration of Independence kep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2819160"/>
            <a:ext cx="7772400" cy="32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600200" y="2825640"/>
            <a:ext cx="524664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4160" y="1616040"/>
            <a:ext cx="8634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ere was the first 4</a:t>
            </a:r>
            <a:r>
              <a:rPr b="0" lang="en-US" sz="4400" spc="-1" strike="noStrike" baseline="30000">
                <a:solidFill>
                  <a:srgbClr val="000066"/>
                </a:solidFill>
                <a:latin typeface="Arial Black"/>
              </a:rPr>
              <a:t>th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 of July hel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4465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On what date did the thirteen colonies vote YES to separating from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2514600" y="3112920"/>
            <a:ext cx="43909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What were the two primary grievances the colonists had with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2209680" y="3406680"/>
            <a:ext cx="44262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What happened to early attempts by the colonists to unite in a common cause for independen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43448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What was dissolved between the people of the United States and Parliament when the Declaration was announc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4299120" cy="284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30T13:06:41Z</dcterms:modified>
  <cp:revision>146</cp:revision>
  <dc:subject/>
  <dc:title>D/O: TO EXPLAIN AND IDENTIFY PROBLEMS OF ECONOMICS</dc:title>
</cp:coreProperties>
</file>